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11E-A267-4FB7-97A8-7AEB1A1B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98C-59E5-4B4A-93DD-0EE180BE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AE2-C972-4A82-9F52-2BA6DEA3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B3C-A05B-4387-952A-F5E9BC01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5AB-6D32-42C2-A853-5D8C3E6B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70D-30E6-42BB-9106-119F7F20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DD0-EEDF-4600-BC2D-194EC58D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F69-0710-4C21-AD9B-DCC77250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182160"/>
            <a:ext cx="6172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3B7-0B01-4830-B2C2-297AA067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79E-7887-4713-B8F2-566D655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4BE-85C3-4EB4-9A68-9037C6BB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7D9-D97F-43B7-9400-EC2A58E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marL="244440" indent="-244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30280" indent="-203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16120" indent="-1620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41560" indent="-1620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4236840"/>
            <a:ext cx="217152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CB5D98E8-842B-4EAB-9C6B-548CD547BB3F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0940" t="29728" r="17531" b="31636"/>
          <a:stretch/>
        </p:blipFill>
        <p:spPr>
          <a:xfrm>
            <a:off x="380880" y="228600"/>
            <a:ext cx="5722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1:54:45Z</dcterms:created>
  <dc:creator>Gary J. Ferland</dc:creator>
  <dc:description/>
  <dc:language>en-US</dc:language>
  <cp:lastModifiedBy>Gary J. Ferland</cp:lastModifiedBy>
  <dcterms:modified xsi:type="dcterms:W3CDTF">2009-01-10T02:09:33Z</dcterms:modified>
  <cp:revision>1</cp:revision>
  <dc:subject/>
  <dc:title>Slide 1</dc:title>
</cp:coreProperties>
</file>